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B40-20C0-4F91-924F-A7DD56EC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917-6A36-4ADF-BF2F-B791A602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5F6-7F06-43D4-B98A-891A1EB9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CBC-E3D3-4BB6-838E-49083F02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AF9F-72F2-4205-AD2F-FB7A2614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377E-2596-41BD-95B4-94A3C731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EBE0-B94A-41E6-8235-5AEAA482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5AFA-0AA2-4264-9427-752581C1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B3B4-2A0B-4D8C-9AE4-0B833FBB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4754-702A-4B0D-8D08-09CBA0B9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3E6A-9680-43BB-8508-FADF05FD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72D-E3F3-467A-96E4-E408C7FC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63E8-DC89-45EB-BE39-AA1C4933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FEBA-69DA-4C40-AABA-C8283105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2FD5-6DCC-4D8B-9F6B-EA5277E4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D21E-CFDE-44BA-92DC-65C08118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164B-C77F-49FB-BD02-6B0BC63A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93F-DB1D-4900-881E-DCAA8D9B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AF20-4A4E-4265-961F-FD9E8B9E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000-712C-47C6-85C5-748938AA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691-3A98-4BB3-B635-BF750191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A0C-519F-46DF-A4E4-F6969182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1B0-0ADA-498E-98A6-25362BEB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6594-2AEE-408A-8C50-6366B514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9C2F-F63D-43FB-BCE3-2FBD7C51E15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814D-C462-4F1D-8720-4FBEBA802F2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nglish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Oct. 14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. 14 ques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d ch. 15 togeth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. 16 for homewor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atch part of movi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ts true that anybody whose had Ms Anderson give her or him a literture assinement could of been confused about the amount of pages to rea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960" indent="-291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960" indent="-291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960" indent="-291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rength:Frail::grace:_______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960" indent="-291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eak:Mispronounce::write:_______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960" indent="-29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OIL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foi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s a person that contrasts with another character (usually the protagonist) in order to highlight various features of the main character's personality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 is the foil to Victor’s father, and in some ways to Victor himself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ournal response-1par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what way is Safie a feminist character? (Meaning she doesn’t fit into the mold of women at that time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. 1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are your feelings about the creature at the end of this chapter? Does he deserve sympathy and compassion? Why or why not. 1 p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6:53:46Z</dcterms:created>
  <dc:creator>vhs</dc:creator>
  <dc:description/>
  <dc:language>en-US</dc:language>
  <cp:lastModifiedBy>vhs</cp:lastModifiedBy>
  <dcterms:modified xsi:type="dcterms:W3CDTF">2009-10-14T17:10:28Z</dcterms:modified>
  <cp:revision>2</cp:revision>
  <dc:subject/>
  <dc:title>English</dc:title>
</cp:coreProperties>
</file>